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16BD-1EC9-436B-99E1-2B5059EB9F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98721-F85B-4405-B60F-241BB0226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BAA5-AB7D-44A2-B402-C7AB9B41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30C50-4F0A-47F9-AFB6-DD6AFB9FF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FCB71-49CF-4A3F-9563-157CFF936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B458A-858F-4D17-A0B7-ED7914E34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39EAC-9BFF-418B-A998-A0ED13953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6BDA-57FF-4D07-8F52-213ADC0C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91E3-8619-4692-ADD3-7DFB7A26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B2DC1-3DF6-477B-A86B-91AF52A8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E5D5-E840-4A4D-B0AA-2F59A0BF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1063E-4561-423B-B7EE-6EE1CF6BC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B776-807E-4B13-9D21-EB433C8DC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D5F9-EB78-4907-9FA2-E135C60332DF}" type="datetime2">
              <a:rPr b="0" lang="ur-PK" sz="1200" spc="-1" strike="noStrike">
                <a:solidFill>
                  <a:srgbClr val="ffffff"/>
                </a:solidFill>
                <a:latin typeface="Verdana"/>
                <a:cs typeface="Arial"/>
              </a:rPr>
              <a:t>بده, 29,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9CB6-4EF2-46D6-9D9B-5AC9DB8F3078}"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56F7-8897-4A89-9EA3-DF1E3C1536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D3A8-016F-450B-94F7-5FC0B0CEA3B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9798-B935-49D6-BBAB-D81882E970D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4D7E-07A5-4CA5-AC41-CF8361797FC5}"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785F-061B-42C7-91C4-3774AC5162B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B31A-05E0-415F-9C43-3049181EAC9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54C5-DAF3-4D2A-9A03-65A505BF5E6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C9A2-E502-4AC6-9E60-AC415985262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5E08-169A-43D5-9D1B-1D2C7C00721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1A64-C6D4-4460-9DB1-99B7ACB8EC5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DB81-8063-4389-9921-FB48B74294A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BB3F-B6B2-4600-A225-DA12D1F5530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E13E-81CF-4C58-82A4-AF53D8497EF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9496-55AB-46AC-8CD1-38FDDDBDD7E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6144-4DAF-4DFA-9CC4-C8C50DC0D91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786A-E064-43F3-8CF2-1D686A0CDDA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C559-80F6-4143-A763-07D1011F237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1D30-C84F-4A99-8A28-133FC62AC41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741F-3625-4232-B1EA-AEA500519F1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FA78-C7EA-421D-9E2F-8281DF093D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6DF9-352F-406C-90B6-DF829A3E5DA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DC3C-7C97-42E0-B8D5-3343E336E97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B288-D551-43DF-8CB2-F5BE1079BB0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F797-A83E-439C-90CE-5E634A0FFE1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4401-16AA-4DC5-9453-4F834C4C64A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5058-B4AD-4C0F-BD79-E502F318ED1D}"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376E-A051-411C-B0D5-1543E170D8D0}"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0EC3-AC75-4F6B-9EB1-CD334E58BF8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D101-B94C-4849-B25F-F844E86F186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024A-6490-4521-837D-20536F6C611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5484-8AA0-445C-AE6D-9CC3BBD9A39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FFEC-5A3F-4C8F-96C2-2D57647FEFB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C83E-27A0-415B-8785-19495DFD938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0DD5-C47F-4414-8950-6C62675FA37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593C-8AA0-4EA0-9AB0-C17DBA15182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12F4-9FA7-4458-9CA1-5705A804FFB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DFA2-89DD-480A-A75D-C953B38E655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C7B4-54E8-4600-A65A-E1C774B447F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6467-10CB-4997-8610-A0863C8C2D4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D744-8652-4283-A47F-73FFE98154C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C66F-339D-40FD-B9F5-E5D00C4117F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A539-CD49-464E-8DE5-491E37F35E5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D71F-0072-4F8D-A2D5-78E95CAC860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3EC5-BCFC-4DDF-B3AC-A54CD4E060D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463B-5132-40F7-A44B-FBB446739E3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6C0B-E2E6-453E-B099-C6AF668C1DB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55AB-E85E-4C40-8DCD-F2EC7D8133B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C185-7179-4192-8BCC-C7D25232A95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72F7-4A9E-4A8E-AAF5-96EB9096B5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9C97-4DDF-4643-9F05-14000376F38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6C24-66F3-410A-843A-DA07E979DBB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C648-544B-4176-8E1F-88CCE94D732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DB3D-D984-4A31-8EC2-8BE40B4E3F1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7106-F33E-43CC-B4E9-B9BA7627F10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80A1-F284-4C36-93D2-1D9CE16EC25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2A73-8BC5-4396-A0E0-5598BFC6841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